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00F-21D1-4251-A548-9ADC1DF7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347-4C19-4A60-89D0-692BDD47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F07-833E-4B5D-B6B1-41127FAE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AB4-ACA3-423C-AC0B-558C322D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934-6E2B-4942-ABE0-128699C7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E53-9387-46EF-899B-B2D4A871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615-342C-4198-90F9-70C8587E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848-8352-4BC6-9705-8624D4A9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4FA-B3C1-4D3B-9130-689F9B3B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463-DEBF-40BD-BBAF-4FB62146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E61-E895-4EF3-B90D-8F47B2B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86F-8C4D-4D2F-B8DD-2801B612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BEB2-DCA0-4E54-A12F-188FE4370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19920"/>
            <a:ext cx="5715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o stole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kies from th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kie jar?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25780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6386400"/>
            <a:ext cx="6210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okie Monste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m the cookie ja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ookie Monster"/>
          <p:cNvPicPr/>
          <p:nvPr/>
        </p:nvPicPr>
        <p:blipFill>
          <a:blip r:embed="rId1"/>
          <a:stretch/>
        </p:blipFill>
        <p:spPr>
          <a:xfrm>
            <a:off x="685800" y="457200"/>
            <a:ext cx="548640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20" y="1219320"/>
            <a:ext cx="6819840" cy="708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4647960"/>
            <a:ext cx="6858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orinna BT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80520" y="114264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25780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18148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1814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 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6858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 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02920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 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6858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 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412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4:09:15Z</dcterms:created>
  <dc:creator>Amy Novak</dc:creator>
  <dc:description/>
  <dc:language>en-US</dc:language>
  <cp:lastModifiedBy>Patti Porto</cp:lastModifiedBy>
  <dcterms:modified xsi:type="dcterms:W3CDTF">2008-01-24T04:02:03Z</dcterms:modified>
  <cp:revision>22</cp:revision>
  <dc:subject/>
  <dc:title>Who Stole the Cookies from the  Cookie Jar?</dc:title>
</cp:coreProperties>
</file>